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35764"/>
        <c:axId val="57012982"/>
      </c:barChart>
      <c:catAx>
        <c:axId val="40035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12982"/>
        <c:crosses val="autoZero"/>
        <c:auto val="1"/>
        <c:lblAlgn val="ctr"/>
        <c:lblOffset val="100"/>
        <c:noMultiLvlLbl val="0"/>
      </c:catAx>
      <c:valAx>
        <c:axId val="57012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35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6FF-B2B1-464C-A4BF-3099BBC1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9E2-5768-42A4-947B-619ED025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2A8-E515-44B0-8372-81EE9452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DE4-7BDB-4404-8769-F326586E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661-8B19-4438-A303-8AF16950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CDB-FC04-4D04-BBF1-9BB370EE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782-765F-48D4-A1AD-AF9BCBDC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56D-6190-4E16-9269-A43676E4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43C-E37B-4F1C-B2E7-A634BE74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B74-1269-431F-B38D-6FABC2A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E3F-D49E-45CA-9E34-79D5E5A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352-65A1-475E-8516-33304001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52B90-0182-48F9-83E8-7DFB5F4C7F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