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44347"/>
        <c:axId val="7940247"/>
      </c:barChart>
      <c:catAx>
        <c:axId val="56244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0247"/>
        <c:crosses val="autoZero"/>
        <c:auto val="1"/>
        <c:lblAlgn val="ctr"/>
        <c:lblOffset val="100"/>
        <c:noMultiLvlLbl val="0"/>
      </c:catAx>
      <c:valAx>
        <c:axId val="79402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44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4967-901F-48B5-99E3-B749C555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9E20-FF18-442B-B2DD-B87FA661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E759-7B98-4997-BE8B-5965F2C1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79BA-78BB-4710-B2E6-B8A1C48A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8911-D2EC-4962-B1AF-0A67C749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49F7-DA0D-4BA1-B82E-39D74E3F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EC7-939B-48BC-B0E3-08546C4C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64A7-ABF4-4301-95CA-987326B1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4403-5D62-4F8E-B37C-1D2DFE63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D847-84FD-4B25-84E8-C466789D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B13-5019-43A7-8A5B-4A5A98D7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4614-2B28-4237-9E49-941A96B6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5DE79-CFE4-468D-BDCB-66D719B420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