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433045"/>
        <c:axId val="46632455"/>
      </c:barChart>
      <c:catAx>
        <c:axId val="70433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32455"/>
        <c:crosses val="autoZero"/>
        <c:auto val="1"/>
        <c:lblAlgn val="ctr"/>
        <c:lblOffset val="100"/>
        <c:noMultiLvlLbl val="0"/>
      </c:catAx>
      <c:valAx>
        <c:axId val="46632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33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E58E-C47A-4C53-8A5A-A2F1C5DB8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D61-9C5E-4374-A592-11F2C47B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79F7-6DB9-4103-BAF4-AD2AD48DB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A96C-BE1C-4839-99DA-CCB4D1186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6F3C-6F61-437D-8A24-D6F8B55A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F2DB-0670-4674-BBF3-E8666744A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04F0-A6CB-444A-B297-ECD02BBB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89DC-5B75-4E48-A2A4-2F954E422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216-AB57-4971-9258-BE6CE195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0C13-41FE-479E-B1C4-789C99EB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DA7F-5373-4C60-B85A-8042C0A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7417-EE69-4AB0-AB6D-1F8D4887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1C81D-A21E-4A36-B362-F91EB5AE63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