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67601"/>
        <c:axId val="49537695"/>
      </c:barChart>
      <c:catAx>
        <c:axId val="268676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37695"/>
        <c:crosses val="autoZero"/>
        <c:auto val="1"/>
        <c:lblAlgn val="ctr"/>
        <c:lblOffset val="100"/>
        <c:noMultiLvlLbl val="0"/>
      </c:catAx>
      <c:valAx>
        <c:axId val="49537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676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CB26-85C7-4FEF-8856-C1C77A35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43C7-BAAF-4046-B012-D546D921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3C26-043E-4109-B611-568218CF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1DA-AAB5-407B-83B2-FE7C132B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D6B-DED6-44CB-B6D3-D6E4D987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3E9-6BDD-4190-9E4B-43D72ECE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626-2286-45CD-8C1A-295E868D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579-D55D-4BE6-B70E-EBBA26C0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7755-E445-44E5-99F2-12EFB646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1E6-E8D7-48C5-B17A-FC92E051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43A9-3765-48D1-9A20-494EB9DF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EAC-8D2B-420A-AEA9-C99AD016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7EE59-593F-4893-B8F2-416F0B4A66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